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533E-E55D-46E9-9404-2C81EDE1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7F36-E98D-4C62-B638-6844A282C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8E6-3E4C-42E7-BB05-87FFED87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6D4-A87F-459B-B782-84FFA94D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102-4B49-4914-AAF6-2748BB57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660-C0F0-4743-84E4-F0C1A01F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9B9-40B6-4AE8-87AD-98199185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1B8-123E-4193-9FD6-075E7BA9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9A9-1D72-4292-ABA1-3328C32C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798-E52D-494A-B564-0B582FFB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829-A516-4812-BAEF-E906603B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780-DBC3-4D26-B3C3-3C8FD165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F06-1069-416F-B523-7620BB16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3FC-DDAA-4AFB-A3B0-2C507F7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AB74-4297-4E15-8E6F-525B82F1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yssa 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lyssa Edmond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lyssa Edmo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lyssa Edmo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,y Buenos dias, Mi nombre es Alyssa. Yo vivo en New York. Yo tengo catorce años. Yo tengo una hermanas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5:57Z</dcterms:modified>
  <cp:revision>104</cp:revision>
  <dc:subject/>
  <dc:title>Profile</dc:title>
</cp:coreProperties>
</file>